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214-90E4-4376-A134-AE59781D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5D0-BBDB-4130-BC38-6404361A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C5F-7B7E-4620-BD86-37F239A3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7C7-C9E9-4D0E-AF36-6F4FC404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E02-9ECC-461D-9F8B-54A268E3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A66-76A9-4165-98A2-BC48336C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AAD-43BB-419E-9A14-ADECCB7C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D8A-8FA6-42AF-8735-CBA06751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B5D-C87A-4478-8E2B-94A77148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88D-1745-4829-AAB6-6FEA18C2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640-BC23-40AB-8F62-C5E9C3AA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F10-0FAF-466D-9A80-7BC6B78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27CF-9446-4F36-A330-10D929DCF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оев помним им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762120"/>
            <a:ext cx="4572000" cy="29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гимназии знает 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, которые прим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й жизни и соверш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авили одно из старейш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х заведений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авира- гимназию №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самых прославл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учеников-Варенников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gDest" descr="http://www.megabook.ru/MObjects2/data/pict2009/s002213.jpg"/>
          <p:cNvPicPr/>
          <p:nvPr/>
        </p:nvPicPr>
        <p:blipFill>
          <a:blip r:embed="rId2"/>
          <a:stretch/>
        </p:blipFill>
        <p:spPr>
          <a:xfrm>
            <a:off x="152280" y="304920"/>
            <a:ext cx="5153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Варенников Валентин Иванович/Неповторимое/Книга 2/Часть 3/Иллюстрации к 2 книге - Таинственная Страна"/>
          <p:cNvPicPr/>
          <p:nvPr/>
        </p:nvPicPr>
        <p:blipFill>
          <a:blip r:embed="rId2"/>
          <a:stretch/>
        </p:blipFill>
        <p:spPr>
          <a:xfrm>
            <a:off x="304920" y="152280"/>
            <a:ext cx="4254480" cy="6096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48040" y="152280"/>
            <a:ext cx="4197600" cy="6096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88390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личному распоряжению Г.К. Жукова В.И. Вареников был назначен  начальником  почетного караула, который сопровождал Знамя Поб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Берлин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6629400" cy="442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Обреченное ГКЧП"/>
          <p:cNvPicPr/>
          <p:nvPr/>
        </p:nvPicPr>
        <p:blipFill>
          <a:blip r:embed="rId3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28600"/>
            <a:ext cx="362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ктябре 2012 года   на стене здания гимназии появилась   мемориальная доска, посвящённая памяти генерала армии Валентина Ивановича Варенни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E:\фото 12-13\варенников открытие доски\IMG_0139.JPG"/>
          <p:cNvPicPr/>
          <p:nvPr/>
        </p:nvPicPr>
        <p:blipFill>
          <a:blip r:embed="rId2"/>
          <a:stretch/>
        </p:blipFill>
        <p:spPr>
          <a:xfrm>
            <a:off x="3657600" y="1693800"/>
            <a:ext cx="5715000" cy="5164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343400" y="15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января  201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парадного входа МБОУ гимназии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вилась еще одна памятная доска в честь  прославленного земляка и выпускника нашей школы - генерала В.И.Варенни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-152280" y="152280"/>
            <a:ext cx="50083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4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35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Скачать обои цветы, огонь, День, победы, вечный - картинка #20486 c разрешением 1440x900"/>
          <p:cNvPicPr/>
          <p:nvPr/>
        </p:nvPicPr>
        <p:blipFill>
          <a:blip r:embed="rId2"/>
          <a:stretch/>
        </p:blipFill>
        <p:spPr>
          <a:xfrm>
            <a:off x="0" y="152280"/>
            <a:ext cx="10972800" cy="6169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августа 1942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228600" y="1143000"/>
            <a:ext cx="9677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ашисты ворвались в горящий гор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7 суток Армавир находился в оккупац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2305080"/>
            <a:ext cx="5943600" cy="4552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4840" y="685800"/>
            <a:ext cx="73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МАВИР ХОТЕЛИ СДЕЛАТЬ ОДНИМ ИЗ НЕМЕЦКИХ ГО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Указатель дорожный, немецкий"/>
          <p:cNvPicPr/>
          <p:nvPr/>
        </p:nvPicPr>
        <p:blipFill>
          <a:blip r:embed="rId2"/>
          <a:stretch/>
        </p:blipFill>
        <p:spPr>
          <a:xfrm>
            <a:off x="762120" y="10666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-228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шистские оккупанты полностью разрушили центр города и почти все промышленные предприятия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нодорожные и коммунальные соору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Самое &quot;городское&quot; село Российской империи. Часть 6. / Архитектурное наследие / Блоги о промышленности на Complexdoc"/>
          <p:cNvPicPr/>
          <p:nvPr/>
        </p:nvPicPr>
        <p:blipFill>
          <a:blip r:embed="rId2"/>
          <a:stretch/>
        </p:blipFill>
        <p:spPr>
          <a:xfrm>
            <a:off x="3886200" y="1765440"/>
            <a:ext cx="5029200" cy="4863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-228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08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мавир до ВОв считался важной узловой ЖД, поэтому Армавир фаш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мбили во время войны нещадно,    пытаясь парализовать движение поездов через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1\Desktop\Разрушения после ВОВ\Рисунок1.jpg"/>
          <p:cNvPicPr/>
          <p:nvPr/>
        </p:nvPicPr>
        <p:blipFill>
          <a:blip r:embed="rId2"/>
          <a:stretch/>
        </p:blipFill>
        <p:spPr>
          <a:xfrm>
            <a:off x="3886200" y="1760400"/>
            <a:ext cx="5029200" cy="4945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-228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сным морозным январским утром 1943 года долгожданные войска армии-освободительницы входили в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Официальный сайт администрации МО г.Армавир В этом году отмечается 70-т лет со дня освобождения Армавира от немецко-фашистских о"/>
          <p:cNvPicPr/>
          <p:nvPr/>
        </p:nvPicPr>
        <p:blipFill>
          <a:blip r:embed="rId2"/>
          <a:stretch/>
        </p:blipFill>
        <p:spPr>
          <a:xfrm>
            <a:off x="228600" y="1219320"/>
            <a:ext cx="6324480" cy="5410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-228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905120"/>
            <a:ext cx="721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28600"/>
            <a:ext cx="325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время оккупации было убито более 6,8 тыс. мирных жителей . Еще около тысячи солдат погибли в кровопролитных боях за освобождение горо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81120" y="274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ЖНЯК  ИВАН ЛУКИЧ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л-лейтенант, участник гражданской и Великой Отечествен-ной войн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вовал   прорыве «Голубой линии», освобожде-нии Кубани от немецко-фашистских захватчи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Легендарный генерал Хижняк (в сканотеку!) : Советский Союз"/>
          <p:cNvPicPr/>
          <p:nvPr/>
        </p:nvPicPr>
        <p:blipFill>
          <a:blip r:embed="rId2"/>
          <a:stretch/>
        </p:blipFill>
        <p:spPr>
          <a:xfrm>
            <a:off x="0" y="0"/>
            <a:ext cx="49467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из первых в Армавир вошел стрелковый полк  Героя Советского Союза гвардии полковни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ра Георгиевича Повет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2 мая родились... 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21T15:19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